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7B15-22E9-4DC1-B5A3-F938527CB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FBAE-8474-48C5-A09E-1146B4209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EE58-F548-4858-B8B6-0FF599331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1618-B461-4B90-98F7-7E147E6F4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BCEE4-C1DB-4950-B1F8-9886DF86B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9F1CA-EF19-41F8-9E23-62D44DAA6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CB915-FC6E-45C0-9E92-F4667C0A5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8687B-0F59-443C-A178-B9BDE2B8C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E78D6-80B9-46BB-BA55-925F12BC8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0E774-740E-4BA9-9980-DAC8990FC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0268D-BDB2-4C72-B0F5-A6478CCB9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DB2E-BECB-45D8-AABF-AF0721A63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AAACA-5660-4E5D-ADE6-03E2987A6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085F6-9234-4C92-95C4-3DE5CF197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8D822-3450-433A-ABD2-C46F0CF67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635BB-16D1-4A5C-AB8C-721DBE8C6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1CDDC-2E7D-4088-8F05-E2D6D555D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A9EBAA-E702-463D-8C9F-B8E3FFE1E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180383-404C-49F0-B79E-0E92BD09F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155864-7FB4-4D35-A1BC-5D0196911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CB7FFE-9BD7-4C0F-B4A9-A44550827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0D38B5-FA1F-40F3-819E-A0C9259C5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67B6-2C7D-42BB-8157-399933744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C438AE-DE51-4224-84BF-1A9B9C684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128604-472C-43CE-96E6-6349CAF2B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ECDDA3-507B-4846-8D66-75B9720C8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0A8BF0-B3BC-420D-B387-A99AE11C3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8F9779-2DAF-4576-8BEE-454D7E438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95508E-CA1A-4B14-AD87-7AA995988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1C5A6E-6ECD-4EEB-ADDC-E9A41CB82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0233D1-5FE5-4544-86C3-BDA86CB06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54E9DC-DE8D-4072-AC12-8EC2FC268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41FC84-6F40-4221-BA9B-5247628B3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90CE-86C9-40CA-8655-A746EF743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464CCB-893A-4A7C-90CE-A819EA8A4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B9C002-4162-4A16-8822-60C90EE62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DC2A3C-97DD-47F0-9099-2C3AABCC2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35A18C-6ED5-4E25-8E78-22F3521B9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69DA14-F66D-4EFE-997C-98B57D9F1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5C4B06-A3D7-45E1-BCEC-C2188C9A6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33482F-14BD-4CDC-ABDC-6F343E822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40A295-65AD-423A-8BCD-9307FA03C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A86BEB-9798-4302-9AE5-2CE02E437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E3FB6D-7F98-4853-B11F-2D2F42CEE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15E7-D219-4B38-8212-98FD42F28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93B584-E5CE-4737-896F-424CA7D35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4F1820-411D-4077-9F71-1BCD0F290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327C1C-5F42-4759-8D63-B12CF27F3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0E330D-6A39-4012-88BC-C3924F20E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E6374B-085F-4FD2-AB14-D19DD3C4D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E0F456-04CF-49AE-BF74-827711A73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1D930D-005B-440A-BC92-0A25DF832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C306B3-ADF1-4026-9CA4-CE066890B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0B3BBC-7A0A-4BF3-A95B-E128C325C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9B1761-7465-4AE2-B353-5E20E593F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C94B-8167-45CB-9BC6-C6476C0D5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EFD013-CE35-4C4C-B041-DBB11B824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01CF32-0FE6-4F59-953F-D12C0A672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C03FA2-C4AC-4C24-921F-1CDEAFBD9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D2912C-16CF-4AF5-AA71-829680958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AFB04B-9BFE-435A-A977-BB0F09540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81B75C-4ACC-491C-9043-5053A1F2B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611F3B-106C-4BB4-8214-A542D341C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3F8F18-678F-4256-ABE3-0718C26AC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F080F9-06F6-4836-997C-3FE65FAB4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7D3CB4-E292-4D4B-A03F-1421DD7C3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19E1-50F7-460A-B9AD-C97B3EF7B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41FADB-12F6-4E70-8760-2D79BD8BB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69BD02-8F00-4816-AD2A-BC144A4F5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916223-000A-4677-A37E-FE0993B13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7A64-17A9-4E54-BABA-DE5937B6F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ABC0-2D1F-4E5F-AC84-8877F711B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8640" y="0"/>
                <a:ext cx="2753640" cy="116964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526FCFEB-A454-46F8-8C90-1C4B9DA57ED3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52" name="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003AA84D-5B41-4F11-9F9E-1AEB042499BF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8760" y="1272960"/>
            <a:ext cx="7701840" cy="1350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0" y="152280"/>
            <a:ext cx="8721360" cy="6113160"/>
            <a:chOff x="0" y="152280"/>
            <a:chExt cx="8721360" cy="6113160"/>
          </a:xfrm>
        </p:grpSpPr>
        <p:sp>
          <p:nvSpPr>
            <p:cNvPr id="95" name=""/>
            <p:cNvSpPr/>
            <p:nvPr/>
          </p:nvSpPr>
          <p:spPr>
            <a:xfrm>
              <a:off x="382320" y="534600"/>
              <a:ext cx="8339040" cy="573084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152280"/>
              <a:ext cx="8568720" cy="122256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1222200"/>
              <a:ext cx="8109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458640" y="6265440"/>
            <a:ext cx="2143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137040" y="626544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578280" y="6265440"/>
            <a:ext cx="214308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A187FE26-740D-4C2C-8980-549DD3A9E1A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"/>
          <p:cNvGrpSpPr/>
          <p:nvPr/>
        </p:nvGrpSpPr>
        <p:grpSpPr>
          <a:xfrm>
            <a:off x="0" y="930240"/>
            <a:ext cx="9027720" cy="4506480"/>
            <a:chOff x="0" y="930240"/>
            <a:chExt cx="9027720" cy="4506480"/>
          </a:xfrm>
        </p:grpSpPr>
        <p:sp>
          <p:nvSpPr>
            <p:cNvPr id="140" name=""/>
            <p:cNvSpPr/>
            <p:nvPr/>
          </p:nvSpPr>
          <p:spPr>
            <a:xfrm>
              <a:off x="688320" y="2075760"/>
              <a:ext cx="7421400" cy="336096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29320" y="930240"/>
              <a:ext cx="7191720" cy="992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0" y="1388520"/>
              <a:ext cx="9027720" cy="18331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0" y="3069000"/>
              <a:ext cx="83394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9680" y="1429920"/>
            <a:ext cx="8109000" cy="16146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dt" idx="10"/>
          </p:nvPr>
        </p:nvSpPr>
        <p:spPr>
          <a:xfrm>
            <a:off x="458640" y="6265800"/>
            <a:ext cx="214344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ftr" idx="11"/>
          </p:nvPr>
        </p:nvSpPr>
        <p:spPr>
          <a:xfrm>
            <a:off x="3137040" y="627012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sldNum" idx="12"/>
          </p:nvPr>
        </p:nvSpPr>
        <p:spPr>
          <a:xfrm>
            <a:off x="6578280" y="6265800"/>
            <a:ext cx="214308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7A5077F0-FF3E-4FEE-93E2-2C2B5DFCA76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185" name="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86" name="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187" name="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13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14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 type="sldNum" idx="15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19837D62-71FA-41F3-B313-C97F922760E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" name="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232" name="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33" name="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234" name="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37" name=""/>
            <p:cNvGrpSpPr/>
            <p:nvPr/>
          </p:nvGrpSpPr>
          <p:grpSpPr>
            <a:xfrm>
              <a:off x="637560" y="534600"/>
              <a:ext cx="8109000" cy="304920"/>
              <a:chOff x="637560" y="534600"/>
              <a:chExt cx="8109000" cy="304920"/>
            </a:xfrm>
          </p:grpSpPr>
          <p:sp>
            <p:nvSpPr>
              <p:cNvPr id="238" name=""/>
              <p:cNvSpPr/>
              <p:nvPr/>
            </p:nvSpPr>
            <p:spPr>
              <a:xfrm>
                <a:off x="6298560" y="534600"/>
                <a:ext cx="244800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37560" y="68688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065320" y="1146240"/>
            <a:ext cx="6656400" cy="2216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dt" idx="16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ftr" idx="17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sldNum" idx="18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4D3541CB-AF92-4CBE-B7C8-507C1EA2D00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85640" y="198000"/>
            <a:ext cx="7880400" cy="646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РОЕКТ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ОСНОВНЫЕ ПАРАМЕТРЫ БЮДЖЕТА ДАЛЬНЕРЕЧЕНСКОГО ГОРОДСКОГО ОКРУГА НА 2019 ГОД И ПЛАНОВЫЙ ПЕРИОД 2020-2021 ГОДЫ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6666"/>
                </a:solidFill>
                <a:latin typeface="Times New Roman"/>
              </a:rPr>
              <a:t>(млн.руб)</a:t>
            </a:r>
            <a:endParaRPr b="1" lang="en-US" sz="10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701640" y="990720"/>
          <a:ext cx="7777080" cy="5922720"/>
        </p:xfrm>
        <a:graphic>
          <a:graphicData uri="http://schemas.openxmlformats.org/drawingml/2006/table">
            <a:tbl>
              <a:tblPr/>
              <a:tblGrid>
                <a:gridCol w="2241720"/>
                <a:gridCol w="1214280"/>
                <a:gridCol w="1152720"/>
                <a:gridCol w="1008000"/>
                <a:gridCol w="1181160"/>
                <a:gridCol w="979200"/>
              </a:tblGrid>
              <a:tr h="26100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 состоянию на 01.10.201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900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38,4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60,6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62,9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3,4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3,4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9,5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7,3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7,3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6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4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безвозмездные поступления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1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бственн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4,8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1,1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5,6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6,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9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 ни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0,5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3,9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1,2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1,4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,2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2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4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6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9,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Рас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2,4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72,6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72,5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61,5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3,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ефицит (профицит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4,0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9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5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4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покрытия дефицита, 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0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статки на счете бюджет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аемные средств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9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2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765000" y="763560"/>
            <a:ext cx="795672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300" spc="-1" strike="noStrike">
                <a:solidFill>
                  <a:srgbClr val="006666"/>
                </a:solidFill>
                <a:latin typeface="Arial"/>
              </a:rPr>
              <a:t>ПРОЕКТ</a:t>
            </a:r>
            <a:br>
              <a:rPr sz="1300"/>
            </a:br>
            <a:r>
              <a:rPr b="1" lang="en-US" sz="1300" spc="-1" strike="noStrike">
                <a:solidFill>
                  <a:srgbClr val="006666"/>
                </a:solidFill>
                <a:latin typeface="Arial"/>
              </a:rPr>
              <a:t>СТРУКТУРА РАСХОДОВ БЮДЖЕТА ДАЛЬНЕРЕЧЕНСКОГО ГОРОДСКОГО ОКРУГА НА ФИНАНСОВОЕ ОБЕСПЕЧЕНИЕ МУНИЦИПАЛЬНЫХ ПРОГРАММ И НЕПРОГРАММНЫХ НАПРАВЛЕНИЙ НА 2019 ГОД  </a:t>
            </a:r>
            <a:br>
              <a:rPr sz="1300"/>
            </a:br>
            <a:r>
              <a:rPr b="1" lang="en-US" sz="1300" spc="-1" strike="noStrike">
                <a:solidFill>
                  <a:srgbClr val="006666"/>
                </a:solidFill>
                <a:latin typeface="Arial"/>
              </a:rPr>
              <a:t>572,67 млн.руб.</a:t>
            </a:r>
            <a:endParaRPr b="1" lang="en-US" sz="13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1165320" y="2368440"/>
          <a:ext cx="7076880" cy="373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5320" y="2368440"/>
                    <a:ext cx="7076880" cy="37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72920" y="414360"/>
            <a:ext cx="795636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МП «РАЗВИТИЕ ОБРАЗОВАНИЯ ДАЛЬНЕРЕЧЕНСКОГО ГОРОДСКОГО ОКРУГА» </a:t>
            </a:r>
            <a:br>
              <a:rPr sz="1400"/>
            </a:b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на 2019 год – 357,91 млн.руб. (местный бюджет – 156,47 млн.руб., </a:t>
            </a:r>
            <a:br>
              <a:rPr sz="1400"/>
            </a:b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                                                             краевой бюджет – 201,44 млн.руб.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557280" y="1494000"/>
          <a:ext cx="8250120" cy="498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1494000"/>
                    <a:ext cx="8250120" cy="49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РАЗВИТИЕ КУЛЬТУРЫ НА ТЕРРИТОРИИ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9 год - 66,22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915840" y="1282680"/>
          <a:ext cx="7705800" cy="551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1282680"/>
                    <a:ext cx="7705800" cy="551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600" spc="-1" strike="noStrike">
                <a:solidFill>
                  <a:srgbClr val="006666"/>
                </a:solidFill>
                <a:latin typeface="Times New Roman"/>
              </a:rPr>
              <a:t>МП «ОБЕСПЕЧЕНИЕ ДОСТУПНЫМ ЖИЛЬЁМ И КАЧЕСТВЕННЫМИ УСЛУГАМИ ЖКХ НАСЕЛЕНИЯ ДАЛЬНЕРЕЧЕНСКОГО ГОРОДСКОГО ОКРУГА» </a:t>
            </a:r>
            <a:br>
              <a:rPr sz="1600"/>
            </a:br>
            <a:r>
              <a:rPr b="1" lang="en-US" sz="1600" spc="-1" strike="noStrike">
                <a:solidFill>
                  <a:srgbClr val="006666"/>
                </a:solidFill>
                <a:latin typeface="Times New Roman"/>
              </a:rPr>
              <a:t>на 2019 год - 6,11 млн.руб.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РАЗВИТИЕ ТРАНСПОРТНОГО КОМПЛЕКСА НА ТЕРРИТОРИИ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9 год - 11,09 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ЭНЕРГОЭФФЕКТИВНОСТЬ, РАЗВИТИЕ ГАЗОСНАБЖЕНИЯ И ЭНЕРГЕТИКИ В ДАЛЬНЕРЕЧЕНСКОМ ГОРОДСКОМ ОКРУГЕ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9 год - 1,915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1062000" y="21542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2000" y="21542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ИНФОРМАЦИОННОЕ ОБЩЕСТВО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9 год – 2,64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902880" y="4870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ОТДЕЛЬНЫЕ МЕРОПРИЯТИЯ В РАМКАХ МУНИЦИПАЛЬНЫХ ПРОГРАММ ДАЛЬНЕРЕЧЕНСКОГО ГОРОДСКОГО ОКРУГА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9 год – 1,88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1282680" y="1892160"/>
          <a:ext cx="7290000" cy="461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2680" y="1892160"/>
                    <a:ext cx="7290000" cy="461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228600" y="261720"/>
            <a:ext cx="7896240" cy="61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600" spc="-1" strike="noStrike">
                <a:solidFill>
                  <a:srgbClr val="06072e"/>
                </a:solidFill>
                <a:latin typeface="Arial"/>
              </a:rPr>
              <a:t>РАСХОДЫ НА НЕПРОГРАММНЫЕ НАПРАВЛЕНИЯ ДЕЯТЕЛЬНОСТИ, СОСТАВЛЯЮЩИЕ БОЛЕЕ 5%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АСХОДОВ, ВКЛЮЧАЯ РЕЗЕРВНЫЙ ФОН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630360" y="1235160"/>
          <a:ext cx="7839000" cy="550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1235160"/>
                    <a:ext cx="7839000" cy="55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6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600"/>
            </a:br>
            <a:r>
              <a:rPr b="1" lang="en-US" sz="1600" spc="-1" strike="noStrike">
                <a:solidFill>
                  <a:srgbClr val="330033"/>
                </a:solidFill>
                <a:latin typeface="Times New Roman"/>
              </a:rPr>
              <a:t>ПРЕДЕЛЬНЫЙ ОБЪЕМ УРОВНЯ ДЕФИЦИТА БЮДЖЕТА ДАЛЬНЕРЕЧЕНСКОГО ГОРОДСКОГО ОКРУГА млн.руб.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903240" y="1638360"/>
          <a:ext cx="8007480" cy="4860720"/>
        </p:xfrm>
        <a:graphic>
          <a:graphicData uri="http://schemas.openxmlformats.org/drawingml/2006/table">
            <a:tbl>
              <a:tblPr/>
              <a:tblGrid>
                <a:gridCol w="2606760"/>
                <a:gridCol w="1295280"/>
                <a:gridCol w="1008000"/>
                <a:gridCol w="1008360"/>
                <a:gridCol w="1008000"/>
                <a:gridCol w="1081080"/>
              </a:tblGrid>
              <a:tr h="35748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8 год (по состоянию на 01.10.2018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ект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9 год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0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1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5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ельный объем уровня дефицита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0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точники внутреннего финансирования дефицита бюджета: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луч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,9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6,4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,5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5,9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гаш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0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6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42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46,4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2,7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3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менение остатков средств на счетах по учету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,0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ОСТУПЛЕНИЕ СОБСТВЕННЫХ ДОХОДОВ В МЕСТНЫЙ БЮДЖЕТ ПО ОСНОВНЫМ ИСТОЧНИКАМ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541440" y="990720"/>
          <a:ext cx="8151840" cy="5688000"/>
        </p:xfrm>
        <a:graphic>
          <a:graphicData uri="http://schemas.openxmlformats.org/drawingml/2006/table">
            <a:tbl>
              <a:tblPr/>
              <a:tblGrid>
                <a:gridCol w="2895480"/>
                <a:gridCol w="1297080"/>
                <a:gridCol w="1008000"/>
                <a:gridCol w="1079640"/>
                <a:gridCol w="1008000"/>
                <a:gridCol w="86364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 по состоянию на 01.10.20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 Бюджет 2019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обственных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4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1,1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5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6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9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0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3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1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1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доходы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8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4,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9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9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3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и на совокупный дох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9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5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кциз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имущество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9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6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2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6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,2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9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зем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Штраф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9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2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та за негативное воздействие на окружающую сред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4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земельных участк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еналоговые поступле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414360" y="990720"/>
          <a:ext cx="8567640" cy="5819760"/>
        </p:xfrm>
        <a:graphic>
          <a:graphicData uri="http://schemas.openxmlformats.org/drawingml/2006/table">
            <a:tbl>
              <a:tblPr/>
              <a:tblGrid>
                <a:gridCol w="4027320"/>
                <a:gridCol w="1244880"/>
                <a:gridCol w="950760"/>
                <a:gridCol w="806400"/>
                <a:gridCol w="804960"/>
                <a:gridCol w="7333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 по состоянию на 01.10.20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7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3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9,5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7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7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6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по обеспечению сбалансированност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2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0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на содержание МФЦ предоставления государственных и муниципальных услуг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федеральных целевых програм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9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мероприятий и на поддержку государственных программ Российской Федерации, и пр. субсид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убвенций бюджету Дальнереченского городского округа: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6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6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6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государственных гарантий реализации прав на получение дошкольного образования в муниципальных дошкольных образовательных организациях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2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2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2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реализацию дошкольного, общего и дополнительного образования в муниципальных общеобразовательных учреждениях по основным общеобразовательным программа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7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2,5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2,5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2,5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обучающихся в младших классах (1-4 включительно) бесплатным питание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рганизацию и обеспечение оздоровления и отдыха детей Приморского края (за исключением организации отдыха детей в каникулярное время)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венции на выполнение переданных полномочий Российской Федерации и субъектов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5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безвозмездные поступления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90320" y="228240"/>
            <a:ext cx="7753320" cy="74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ПРОЕКТ </a:t>
            </a:r>
            <a:br>
              <a:rPr sz="1900"/>
            </a:b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СТРУКТУРА ДОХОДОВ БЮДЖЕТА ДАЛЬНЕРЕЧЕНСКОГО ГОРОДСКОГО ОКРУГА НА 2019 ГОД (560,67млн.руб.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1127160" y="1235160"/>
          <a:ext cx="7045200" cy="499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7160" y="1235160"/>
                    <a:ext cx="7045200" cy="499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ПРОЕКТ</a:t>
            </a:r>
            <a:br>
              <a:rPr sz="1900"/>
            </a:b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СТРУКТУРА СОБСТВЕННЫХ (НАЛОГОВЫХ И НЕНАЛОГОВЫХ) ДОХОДОВ В 2019 ГОДУ (351,14 млн.руб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485640" y="1566720"/>
          <a:ext cx="8001000" cy="469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5640" y="1566720"/>
                    <a:ext cx="8001000" cy="46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18 И 2019-2021 ГОДОВ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325440" y="1138320"/>
          <a:ext cx="4686120" cy="573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440" y="1138320"/>
                    <a:ext cx="4686120" cy="57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5" name=""/>
          <p:cNvGraphicFramePr/>
          <p:nvPr/>
        </p:nvGraphicFramePr>
        <p:xfrm>
          <a:off x="5240160" y="1141560"/>
          <a:ext cx="3470400" cy="565596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768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</a:tr>
              <a:tr h="1201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</a:tr>
              <a:tr h="1370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99880" y="277560"/>
            <a:ext cx="7521480" cy="85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700"/>
            </a:b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19ГОДУ (206,48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466560" y="1155600"/>
          <a:ext cx="8460000" cy="535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55600"/>
                    <a:ext cx="8460000" cy="53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РОЕКТ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РАСПРЕДЕЛЕНИЕ БЮДЖЕТНЫХ СРЕДСТВ В ВЕДОМСТВЕННОЙ СТРУКТУРЕ РАСХОДОВ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541440" y="1351080"/>
          <a:ext cx="8440560" cy="5100480"/>
        </p:xfrm>
        <a:graphic>
          <a:graphicData uri="http://schemas.openxmlformats.org/drawingml/2006/table">
            <a:tbl>
              <a:tblPr/>
              <a:tblGrid>
                <a:gridCol w="3400200"/>
                <a:gridCol w="1440000"/>
                <a:gridCol w="936720"/>
                <a:gridCol w="936360"/>
                <a:gridCol w="790560"/>
                <a:gridCol w="9367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 по состоянию на 01.10.20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7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6,9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0,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3,1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3,60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0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7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2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4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4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4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,0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9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7,9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2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0,7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0,7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7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Культура и кинематограф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,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,4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,4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5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52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52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редства массовой информаци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2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служивание государственного и муниципального долг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Условно утвержденные 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7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2,4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72,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72,58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61,5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3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ПРОЕКТ </a:t>
            </a:r>
            <a:br>
              <a:rPr sz="1700"/>
            </a:b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СТРУКТУРА РАСХОДОВ ДАЛЬНЕРЕЧЕНСКОГО ГОРОДСКОГО ОКРУГА НА 201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9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 ГОД (572,67 млн.руб.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558720" y="1397160"/>
          <a:ext cx="8178840" cy="510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8720" y="1397160"/>
                    <a:ext cx="8178840" cy="510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user31</cp:lastModifiedBy>
  <dcterms:modified xsi:type="dcterms:W3CDTF">2018-11-07T05:14:40Z</dcterms:modified>
  <cp:revision>130</cp:revision>
  <dc:subject/>
  <dc:title>Структура собственных доходов на 2016 год бюджета Дальнереченского городского округа</dc:title>
</cp:coreProperties>
</file>